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86D-8C6F-465F-B355-A2FE810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781-EA78-49A8-A3BB-2A1DE3A1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336-2FFC-433C-B781-3E4121C9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8A2-A5E0-4963-9EAF-72478412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9DB-FDE9-466E-A6DF-ABC0AF3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211-05CE-4770-8B89-0675D48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590-0843-41A1-BD86-D4CB894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115-614F-4105-BD9D-0D88B5B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4C0-6C86-4D3C-A3DC-27E10E5D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3D4-62DB-41E4-9037-349674CC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348-2EB2-414B-A243-49DC487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B6A-591E-4FC1-B85B-D9CE529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27B-320B-45BB-8C27-163C25BB4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189000"/>
            <a:ext cx="5184720" cy="1546200"/>
            <a:chOff x="539640" y="189000"/>
            <a:chExt cx="5184720" cy="1546200"/>
          </a:xfrm>
        </p:grpSpPr>
        <p:sp>
          <p:nvSpPr>
            <p:cNvPr id="48" name=""/>
            <p:cNvSpPr txBox="1"/>
            <p:nvPr/>
          </p:nvSpPr>
          <p:spPr>
            <a:xfrm>
              <a:off x="2514600" y="1230480"/>
              <a:ext cx="32097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 първите 5 язви</a:t>
              </a:r>
              <a:endParaRPr b="1" i="1" lang="en-US" sz="4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042920" y="658800"/>
              <a:ext cx="39150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релюдия към язвите</a:t>
              </a:r>
              <a:endParaRPr b="1" i="1" lang="en-US" sz="4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539640" y="189000"/>
              <a:ext cx="59076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i="1" lang="en-US" sz="66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02716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2-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557360"/>
            <a:ext cx="484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 видях </a:t>
            </a:r>
            <a:r>
              <a:rPr b="1" i="1" lang="bg-BG" sz="1800" spc="-1" strike="noStrike">
                <a:solidFill>
                  <a:srgbClr val="ffffff"/>
                </a:solidFill>
                <a:latin typeface="Arial"/>
              </a:rPr>
              <a:t>нещ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като стъклено море, размесено с огън, 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тия, които бяха победили звяра и образа му и числото на името му, стояха при стъкленото море, държейки Божии арф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 пееха песента на Божия слуга Моисея и песента на Агнето, казвайки: Велики и чудесни са Твоите дела, Господи Боже Всемогъщи; праведни и истинни са Твоите пътища, Царю на веко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й няма да се бои от името Ти, Господи, и да го прослави? Защото само Ти си свет; понеже всичките народи ще дойдат и ще се поклонят пред Тебе, защото се явиха Твоите праведни съд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3080" y="835200"/>
            <a:ext cx="2228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4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2205000"/>
            <a:ext cx="385740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ред престола има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що като стъклено мор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добно на кристал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насред престол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коло него - четири жи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щества, покрити с оч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отпред и отзад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116000" y="222120"/>
          <a:ext cx="6959520" cy="639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22120"/>
                    <a:ext cx="6959520" cy="6394680"/>
                  </a:xfrm>
                  <a:prstGeom prst="rect">
                    <a:avLst/>
                  </a:prstGeom>
                  <a:ln w="9360">
                    <a:solidFill>
                      <a:srgbClr val="ffff7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95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2205000"/>
            <a:ext cx="33811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лед това видях, ч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небето се отво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амът на скиния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свидетелствот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95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2205000"/>
            <a:ext cx="384804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едемте ангел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държаха седем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да язви, излязоха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ама, облечени в чис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светли ленени дрех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репасани през гърд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с златни поя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195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2205000"/>
            <a:ext cx="360972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едно от седем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и същества дад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ангела седе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латни чаши, пълни 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нева на Бога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ее до вечни векове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95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2205000"/>
            <a:ext cx="366696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храмът се изпъл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дим от славата на Бо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от Неговата сила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икой не можеше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лезе в храма, преди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ключат седемте яз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седемте ангел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692360" y="5157720"/>
            <a:ext cx="6024600" cy="1079640"/>
            <a:chOff x="1692360" y="5157720"/>
            <a:chExt cx="6024600" cy="1079640"/>
          </a:xfrm>
        </p:grpSpPr>
        <p:sp>
          <p:nvSpPr>
            <p:cNvPr id="96" name=""/>
            <p:cNvSpPr txBox="1"/>
            <p:nvPr/>
          </p:nvSpPr>
          <p:spPr>
            <a:xfrm>
              <a:off x="1692360" y="5157720"/>
              <a:ext cx="28479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сус Христос -</a:t>
              </a:r>
              <a:endParaRPr b="1" i="1" lang="en-US" sz="4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716360" y="5627520"/>
              <a:ext cx="3000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Първосвещеник</a:t>
              </a:r>
              <a:endParaRPr b="1" i="1" lang="en-US" sz="4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549360"/>
            <a:ext cx="1800360" cy="180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7 язви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3280" y="2805120"/>
            <a:ext cx="52484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от храма силен глас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ше на седемте ангел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дете и излейте на земята седем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аши на Божия гняв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3280" y="2805120"/>
            <a:ext cx="46767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ървия отиде и изля чаш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на земята; и се отвори лош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люта рана по онези човец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носеха белега на звяр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които се покланях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ия образ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88000" y="5589720"/>
            <a:ext cx="37432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ткровение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2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2805120"/>
            <a:ext cx="45338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тория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морето; и то стана кръв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мътвец и всяка жива твар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морето умря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3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03280" y="2805120"/>
            <a:ext cx="45244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ретия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реките и във водните изво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водата им стана кръв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3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280512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ангела на водите да казв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аведен си Ти, Пресвяти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и Който си бил, затова ч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отсъдил так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3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03280" y="2805120"/>
            <a:ext cx="45626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неже те проляха кръв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и и на пророци, то и 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им дал да пият кръв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заслужават то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3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03280" y="2805120"/>
            <a:ext cx="465768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друг от олтара да казв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, Господи Боже всемогъщ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тинни и праведни са Тво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съд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4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03280" y="2805120"/>
            <a:ext cx="58294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Четвъртия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ху слънцето, на което бе позволе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изгаря човеците с огъ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4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03280" y="2781360"/>
            <a:ext cx="50007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оляма жега изнури човецит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те похулиха името на Бо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има власт над тези язв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е се покаяха да Му отдад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700360" y="5373720"/>
            <a:ext cx="322884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0 язви в Египет</a:t>
            </a:r>
            <a:endParaRPr b="1" i="1" lang="en-US" sz="40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1897200"/>
            <a:ext cx="1800360" cy="180000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044960" y="2421000"/>
            <a:ext cx="189540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Болест</a:t>
            </a:r>
            <a:endParaRPr b="1" i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284720" y="79704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62680" y="2276640"/>
            <a:ext cx="28573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яма да се боиш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нощен страх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стрел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ято лети денем,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284720" y="79704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62680" y="2276640"/>
            <a:ext cx="29336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от мор, който ид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тъмнин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погибел, коя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устошава с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дн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284720" y="79704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58080" y="2276640"/>
            <a:ext cx="279072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Хиляда душ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дат от стра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и и десет хиляди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 десницата т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 при теб ня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приближ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284720" y="79704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24520" y="2276640"/>
            <a:ext cx="29527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амо с очите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гледаш 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диш възмезди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нечестив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284720" y="79704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59280" y="2276640"/>
            <a:ext cx="31338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неже си казал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 е мое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бежище, и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правил Всевишн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италището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284720" y="797040"/>
            <a:ext cx="19810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1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62680" y="2276640"/>
            <a:ext cx="28479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това няма да 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олети никакв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ло, нито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ближи яз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 шатъра т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044960" y="2349360"/>
            <a:ext cx="20858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орето</a:t>
            </a:r>
            <a:endParaRPr b="1" i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2720" y="4133880"/>
            <a:ext cx="1800360" cy="180036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87640" y="2349360"/>
            <a:ext cx="41148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одните извори</a:t>
            </a:r>
            <a:endParaRPr b="1" i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48360" y="189000"/>
            <a:ext cx="1752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2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5560" y="4903920"/>
            <a:ext cx="54291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ще се появят лъжехрист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лъжепророци, които ще покаж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еми знамения и чудес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ка че да заблудя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ко е възможно и избран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708360" y="2349360"/>
            <a:ext cx="25336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лънцето</a:t>
            </a:r>
            <a:endParaRPr b="1" i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276720" y="779400"/>
            <a:ext cx="14475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мос 8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920" y="2556000"/>
            <a:ext cx="46195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Ето идват дни, казва Госпо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ехова, когато ще изпрат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ад на земята - не глад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ляб, нито жажда за вода, 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слушане думите Господ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276720" y="779400"/>
            <a:ext cx="14475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мос 8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2698920"/>
            <a:ext cx="41907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ще се скитат от море д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ре да тъсят сло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не и ще обикалят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вер до изток, но ня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го намеря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24000" y="942840"/>
            <a:ext cx="1666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лън Уайт 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49960" y="6257880"/>
            <a:ext cx="303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Великата борба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8920" y="2060640"/>
            <a:ext cx="4734000" cy="2736720"/>
            <a:chOff x="1258920" y="2060640"/>
            <a:chExt cx="4734000" cy="2736720"/>
          </a:xfrm>
        </p:grpSpPr>
        <p:sp>
          <p:nvSpPr>
            <p:cNvPr id="216" name=""/>
            <p:cNvSpPr txBox="1"/>
            <p:nvPr/>
          </p:nvSpPr>
          <p:spPr>
            <a:xfrm>
              <a:off x="1258920" y="2060640"/>
              <a:ext cx="4734000" cy="1447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Язвите не са всеобщи, инач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жителите биха били съвършен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унищожени. Но те все пак щ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бъдат най-страшните бедствия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258920" y="3716280"/>
              <a:ext cx="4486320" cy="1081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знати някога на смъртни хора..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ри последния съд Божия гняв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е излее чист, без пощада. "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5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403280" y="2781360"/>
            <a:ext cx="49532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етия ангел изля чаш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ху престола на звяра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ството му потъмня и човец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апеха езиците си от болк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6272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58920" y="1106640"/>
            <a:ext cx="1066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5 язва</a:t>
            </a:r>
            <a:endParaRPr b="1" i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403280" y="2781360"/>
            <a:ext cx="448632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охулиха небесния Бог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ради болките  и раните с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е се покаяха за делата си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332000" y="1125360"/>
            <a:ext cx="3343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ървите 5 язви</a:t>
            </a:r>
            <a:endParaRPr b="1" i="1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14972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0000" y="33336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263700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1916280"/>
            <a:ext cx="1800360" cy="180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3716280"/>
            <a:ext cx="180036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314280"/>
            <a:ext cx="1800000" cy="180036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08360" y="2349360"/>
            <a:ext cx="2619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ъмнина</a:t>
            </a:r>
            <a:endParaRPr b="1" i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763640" y="5157720"/>
            <a:ext cx="4805280" cy="979560"/>
            <a:chOff x="1763640" y="5157720"/>
            <a:chExt cx="4805280" cy="979560"/>
          </a:xfrm>
        </p:grpSpPr>
        <p:sp>
          <p:nvSpPr>
            <p:cNvPr id="238" name=""/>
            <p:cNvSpPr txBox="1"/>
            <p:nvPr/>
          </p:nvSpPr>
          <p:spPr>
            <a:xfrm>
              <a:off x="1763640" y="5157720"/>
              <a:ext cx="28479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сус Христос -</a:t>
              </a:r>
              <a:endParaRPr b="1" i="1" lang="en-US" sz="4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844880" y="5589720"/>
              <a:ext cx="1724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Ходатай</a:t>
              </a:r>
              <a:endParaRPr b="1" i="1" lang="en-US" sz="4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428920" y="79848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492280"/>
            <a:ext cx="356220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ова благовести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ството ще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повядвано по цел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ят за свидетелств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 народи; и тога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дойде краят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61152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3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48360" y="2276640"/>
            <a:ext cx="3714480" cy="25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не си опазил Моя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повед да търпиш, и Аз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опазя теб от врем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изпитанието, ко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дойде върху цел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ят да изпита онез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живеят по земята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067280" y="817560"/>
            <a:ext cx="1400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55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607000" y="2133720"/>
            <a:ext cx="328608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ърсете Господ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като може д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мери, призовавай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, докато е близ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067280" y="817560"/>
            <a:ext cx="1400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55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16680" y="1989000"/>
            <a:ext cx="2876400" cy="361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ека нечестив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остави пътя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еправедния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мислите си, не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обърне към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а и Той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смили над нег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към нашия Бог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Той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щава щедр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916360" y="5103720"/>
            <a:ext cx="2685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16 януа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341360"/>
            <a:ext cx="28764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и 7 язва</a:t>
            </a:r>
            <a:endParaRPr b="1" i="1" lang="en-US" sz="60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12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94444E-006 1.75682E-006 C 0.07083 -0.05063 0.17708 -0.08253 0.29531 -0.08253 C 0.41354 -0.08253 0.51979 -0.05063 0.5908 1.75682E-006 C 0.51979 0.05062 0.41354 0.08252 0.29531 0.08252 C 0.17708 0.08252 0.07083 0.05062 1.94444E-006 1.75682E-006 Z">
                                      <p:cBhvr>
                                        <p:cTn id="746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34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68720" y="0"/>
            <a:ext cx="151128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95640" y="333360"/>
            <a:ext cx="5329080" cy="1150920"/>
            <a:chOff x="2195640" y="333360"/>
            <a:chExt cx="5329080" cy="1150920"/>
          </a:xfrm>
        </p:grpSpPr>
        <p:sp>
          <p:nvSpPr>
            <p:cNvPr id="65" name=""/>
            <p:cNvSpPr txBox="1"/>
            <p:nvPr/>
          </p:nvSpPr>
          <p:spPr>
            <a:xfrm>
              <a:off x="2195640" y="333360"/>
              <a:ext cx="1857240" cy="92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Двете</a:t>
              </a:r>
              <a:endPara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610240" y="560520"/>
              <a:ext cx="1914480" cy="92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жетви</a:t>
              </a:r>
              <a:endPara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2716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2565360"/>
            <a:ext cx="395280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на небето дру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намение, голямо и чудно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 ангела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ържаха седем вида язв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са последнит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с тях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черпва Божия гняв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9640" y="5373720"/>
            <a:ext cx="32101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ветиите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0:43Z</dcterms:created>
  <dc:creator>The Mind</dc:creator>
  <dc:description/>
  <dc:language>en-US</dc:language>
  <cp:lastModifiedBy>Vlady</cp:lastModifiedBy>
  <dcterms:modified xsi:type="dcterms:W3CDTF">2005-01-09T14:44:17Z</dcterms:modified>
  <cp:revision>27</cp:revision>
  <dc:subject/>
  <dc:title>Slide 1</dc:title>
</cp:coreProperties>
</file>